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5CC-8D38-4124-AB89-ED055AEC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E5B-903C-428F-BA0B-7A3A4EA5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098-ED76-4BC4-A417-CE5167CA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F13-B343-4F16-AC76-9ECC6113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B38-777C-4B81-9D7A-C1B4E488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5C6-F713-4180-8748-601ED62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689-6CC1-4207-9648-DE4F25C7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186-DBFB-4982-B4C2-BE9B84A5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33440"/>
            <a:ext cx="61722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D9E-5CBC-41A8-99DA-068541B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866-50CC-4B8A-9202-9AEF333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860-21CB-418D-A28B-6359342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0B1-8AB2-4B0F-89B8-72EBC6C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835920"/>
            <a:ext cx="217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93FF-906A-4819-894E-1E55F133740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852560" y="1208160"/>
            <a:ext cx="2952000" cy="790560"/>
            <a:chOff x="1852560" y="1208160"/>
            <a:chExt cx="2952000" cy="790560"/>
          </a:xfrm>
        </p:grpSpPr>
        <p:sp>
          <p:nvSpPr>
            <p:cNvPr id="42" name="文本框 1"/>
            <p:cNvSpPr/>
            <p:nvPr/>
          </p:nvSpPr>
          <p:spPr>
            <a:xfrm>
              <a:off x="3243960" y="1281600"/>
              <a:ext cx="2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村制定方案确定分配方式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对象人员、保障金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流程图: 可选过程 2"/>
            <p:cNvSpPr/>
            <p:nvPr/>
          </p:nvSpPr>
          <p:spPr>
            <a:xfrm>
              <a:off x="1852560" y="1208160"/>
              <a:ext cx="2952000" cy="7905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2081160" y="9043920"/>
            <a:ext cx="2541600" cy="495360"/>
            <a:chOff x="2081160" y="9043920"/>
            <a:chExt cx="2541600" cy="495360"/>
          </a:xfrm>
        </p:grpSpPr>
        <p:sp>
          <p:nvSpPr>
            <p:cNvPr id="45" name="文本框 8"/>
            <p:cNvSpPr/>
            <p:nvPr/>
          </p:nvSpPr>
          <p:spPr>
            <a:xfrm>
              <a:off x="2611080" y="9117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发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流程图: 可选过程 9"/>
            <p:cNvSpPr/>
            <p:nvPr/>
          </p:nvSpPr>
          <p:spPr>
            <a:xfrm>
              <a:off x="2081160" y="9043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" name="肘形连接符 47"/>
          <p:cNvCxnSpPr/>
          <p:nvPr/>
        </p:nvCxnSpPr>
        <p:spPr>
          <a:xfrm flipH="1">
            <a:off x="3374640" y="8003880"/>
            <a:ext cx="1828080" cy="10659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sp>
        <p:nvSpPr>
          <p:cNvPr id="48" name="文本框 1"/>
          <p:cNvSpPr/>
          <p:nvPr/>
        </p:nvSpPr>
        <p:spPr>
          <a:xfrm>
            <a:off x="2218680" y="6303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征地社保留存资金分配流程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627200" y="9791640"/>
            <a:ext cx="380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备注：被征地村将留存资金划入财政专户这一环节中，因省系统对被征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农民养老保险业务经办模块尚未下发权限，要求乡镇场街道提交资料最终按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统实际要求为准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442440" y="270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4"/>
          <p:cNvGrpSpPr/>
          <p:nvPr/>
        </p:nvGrpSpPr>
        <p:grpSpPr>
          <a:xfrm>
            <a:off x="768240" y="2330280"/>
            <a:ext cx="5170680" cy="776520"/>
            <a:chOff x="768240" y="2330280"/>
            <a:chExt cx="5170680" cy="776520"/>
          </a:xfrm>
        </p:grpSpPr>
        <p:sp>
          <p:nvSpPr>
            <p:cNvPr id="52" name="文本框 5"/>
            <p:cNvSpPr/>
            <p:nvPr/>
          </p:nvSpPr>
          <p:spPr>
            <a:xfrm>
              <a:off x="1800720" y="240408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案经乡镇场街道审批后，召开村民大会或村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大会进行表决通过，然后公示保障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流程图: 可选过程 4"/>
            <p:cNvSpPr/>
            <p:nvPr/>
          </p:nvSpPr>
          <p:spPr>
            <a:xfrm>
              <a:off x="768240" y="2330280"/>
              <a:ext cx="5170680" cy="77652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4"/>
          <p:cNvGrpSpPr/>
          <p:nvPr/>
        </p:nvGrpSpPr>
        <p:grpSpPr>
          <a:xfrm>
            <a:off x="2081160" y="3436920"/>
            <a:ext cx="2541600" cy="495360"/>
            <a:chOff x="2081160" y="3436920"/>
            <a:chExt cx="2541600" cy="495360"/>
          </a:xfrm>
        </p:grpSpPr>
        <p:sp>
          <p:nvSpPr>
            <p:cNvPr id="55" name="文本框 5"/>
            <p:cNvSpPr/>
            <p:nvPr/>
          </p:nvSpPr>
          <p:spPr>
            <a:xfrm>
              <a:off x="2611080" y="3510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支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流程图: 可选过程 6"/>
            <p:cNvSpPr/>
            <p:nvPr/>
          </p:nvSpPr>
          <p:spPr>
            <a:xfrm>
              <a:off x="2081160" y="3436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314280" y="4659480"/>
            <a:ext cx="2539800" cy="495000"/>
            <a:chOff x="314280" y="4659480"/>
            <a:chExt cx="2539800" cy="495000"/>
          </a:xfrm>
        </p:grpSpPr>
        <p:sp>
          <p:nvSpPr>
            <p:cNvPr id="58" name="文本框 11"/>
            <p:cNvSpPr/>
            <p:nvPr/>
          </p:nvSpPr>
          <p:spPr>
            <a:xfrm>
              <a:off x="8438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留存资金的审核及拨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流程图: 可选过程 12"/>
            <p:cNvSpPr/>
            <p:nvPr/>
          </p:nvSpPr>
          <p:spPr>
            <a:xfrm>
              <a:off x="3142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3930480" y="4659480"/>
            <a:ext cx="2539800" cy="495000"/>
            <a:chOff x="3930480" y="4659480"/>
            <a:chExt cx="2539800" cy="495000"/>
          </a:xfrm>
        </p:grpSpPr>
        <p:sp>
          <p:nvSpPr>
            <p:cNvPr id="61" name="文本框 14"/>
            <p:cNvSpPr/>
            <p:nvPr/>
          </p:nvSpPr>
          <p:spPr>
            <a:xfrm>
              <a:off x="44600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支付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流程图: 可选过程 15"/>
            <p:cNvSpPr/>
            <p:nvPr/>
          </p:nvSpPr>
          <p:spPr>
            <a:xfrm>
              <a:off x="39304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9"/>
          <p:cNvGrpSpPr/>
          <p:nvPr/>
        </p:nvGrpSpPr>
        <p:grpSpPr>
          <a:xfrm>
            <a:off x="260280" y="5670720"/>
            <a:ext cx="2781000" cy="717480"/>
            <a:chOff x="260280" y="5670720"/>
            <a:chExt cx="2781000" cy="717480"/>
          </a:xfrm>
        </p:grpSpPr>
        <p:sp>
          <p:nvSpPr>
            <p:cNvPr id="64" name="流程图: 过程 17"/>
            <p:cNvSpPr/>
            <p:nvPr/>
          </p:nvSpPr>
          <p:spPr>
            <a:xfrm>
              <a:off x="260280" y="5670720"/>
              <a:ext cx="2781000" cy="7174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527480" y="571356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人社局、市自然资源局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财政局联合审核、下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262080" y="7105680"/>
            <a:ext cx="2781000" cy="965160"/>
            <a:chOff x="262080" y="7105680"/>
            <a:chExt cx="2781000" cy="965160"/>
          </a:xfrm>
        </p:grpSpPr>
        <p:sp>
          <p:nvSpPr>
            <p:cNvPr id="67" name="流程图: 过程 21"/>
            <p:cNvSpPr/>
            <p:nvPr/>
          </p:nvSpPr>
          <p:spPr>
            <a:xfrm>
              <a:off x="262080" y="7105680"/>
              <a:ext cx="2781000" cy="96516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2"/>
            <p:cNvSpPr/>
            <p:nvPr/>
          </p:nvSpPr>
          <p:spPr>
            <a:xfrm>
              <a:off x="262440" y="7148520"/>
              <a:ext cx="2697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各乡镇场街道及时将征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保留存资金拨付到被征地村征地补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3"/>
          <p:cNvGrpSpPr/>
          <p:nvPr/>
        </p:nvGrpSpPr>
        <p:grpSpPr>
          <a:xfrm>
            <a:off x="3787920" y="5594400"/>
            <a:ext cx="2781000" cy="985680"/>
            <a:chOff x="3787920" y="5594400"/>
            <a:chExt cx="2781000" cy="985680"/>
          </a:xfrm>
        </p:grpSpPr>
        <p:sp>
          <p:nvSpPr>
            <p:cNvPr id="70" name="流程图: 过程 24"/>
            <p:cNvSpPr/>
            <p:nvPr/>
          </p:nvSpPr>
          <p:spPr>
            <a:xfrm>
              <a:off x="3787920" y="5594400"/>
              <a:ext cx="2781000" cy="9856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5"/>
            <p:cNvSpPr/>
            <p:nvPr/>
          </p:nvSpPr>
          <p:spPr>
            <a:xfrm>
              <a:off x="4291920" y="5637600"/>
              <a:ext cx="168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直接将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次性划入市财政局城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养老保险财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6"/>
          <p:cNvGrpSpPr/>
          <p:nvPr/>
        </p:nvGrpSpPr>
        <p:grpSpPr>
          <a:xfrm>
            <a:off x="3787920" y="7015320"/>
            <a:ext cx="2779560" cy="984240"/>
            <a:chOff x="3787920" y="7015320"/>
            <a:chExt cx="2779560" cy="984240"/>
          </a:xfrm>
        </p:grpSpPr>
        <p:sp>
          <p:nvSpPr>
            <p:cNvPr id="73" name="流程图: 过程 27"/>
            <p:cNvSpPr/>
            <p:nvPr/>
          </p:nvSpPr>
          <p:spPr>
            <a:xfrm>
              <a:off x="3787920" y="7015320"/>
              <a:ext cx="2779560" cy="98424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28"/>
            <p:cNvSpPr/>
            <p:nvPr/>
          </p:nvSpPr>
          <p:spPr>
            <a:xfrm>
              <a:off x="3824640" y="7058160"/>
              <a:ext cx="274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社保局将留存资金分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到参保人城乡居民基本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保险个人账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肘形连接符 41"/>
          <p:cNvCxnSpPr/>
          <p:nvPr/>
        </p:nvCxnSpPr>
        <p:spPr>
          <a:xfrm flipV="1">
            <a:off x="1584000" y="4653720"/>
            <a:ext cx="3616920" cy="3960"/>
          </a:xfrm>
          <a:prstGeom prst="straightConnector1">
            <a:avLst/>
          </a:prstGeom>
          <a:ln w="19080">
            <a:solidFill>
              <a:srgbClr val="46999d"/>
            </a:solidFill>
            <a:miter/>
          </a:ln>
        </p:spPr>
      </p:cxnSp>
      <p:sp>
        <p:nvSpPr>
          <p:cNvPr id="76" name="直接连接符 42"/>
          <p:cNvSpPr/>
          <p:nvPr/>
        </p:nvSpPr>
        <p:spPr>
          <a:xfrm>
            <a:off x="3352680" y="3932280"/>
            <a:ext cx="0" cy="482400"/>
          </a:xfrm>
          <a:prstGeom prst="line">
            <a:avLst/>
          </a:prstGeom>
          <a:ln w="1908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43"/>
          <p:cNvCxnSpPr/>
          <p:nvPr/>
        </p:nvCxnSpPr>
        <p:spPr>
          <a:xfrm>
            <a:off x="1557000" y="5165280"/>
            <a:ext cx="1080" cy="52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8" name="直接箭头连接符 44"/>
          <p:cNvCxnSpPr/>
          <p:nvPr/>
        </p:nvCxnSpPr>
        <p:spPr>
          <a:xfrm>
            <a:off x="1557000" y="6391080"/>
            <a:ext cx="1080" cy="7351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9" name="直接箭头连接符 10"/>
          <p:cNvCxnSpPr/>
          <p:nvPr/>
        </p:nvCxnSpPr>
        <p:spPr>
          <a:xfrm>
            <a:off x="5227200" y="5154120"/>
            <a:ext cx="1080" cy="4597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0" name="直接箭头连接符 13"/>
          <p:cNvCxnSpPr/>
          <p:nvPr/>
        </p:nvCxnSpPr>
        <p:spPr>
          <a:xfrm>
            <a:off x="5211360" y="6573960"/>
            <a:ext cx="1080" cy="4593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grpSp>
        <p:nvGrpSpPr>
          <p:cNvPr id="81" name="组合 18"/>
          <p:cNvGrpSpPr/>
          <p:nvPr/>
        </p:nvGrpSpPr>
        <p:grpSpPr>
          <a:xfrm>
            <a:off x="3043080" y="4893480"/>
            <a:ext cx="887400" cy="2694960"/>
            <a:chOff x="3043080" y="4893480"/>
            <a:chExt cx="887400" cy="2694960"/>
          </a:xfrm>
        </p:grpSpPr>
        <p:cxnSp>
          <p:nvCxnSpPr>
            <p:cNvPr id="82" name="肘形连接符 14"/>
            <p:cNvCxnSpPr>
              <a:stCxn id="67" idx="3"/>
            </p:cNvCxnSpPr>
            <p:nvPr/>
          </p:nvCxnSpPr>
          <p:spPr>
            <a:xfrm flipV="1">
              <a:off x="3043080" y="4893480"/>
              <a:ext cx="314280" cy="269532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</a:ln>
          </p:spPr>
        </p:cxnSp>
        <p:cxnSp>
          <p:nvCxnSpPr>
            <p:cNvPr id="83" name="直接箭头连接符 16"/>
            <p:cNvCxnSpPr>
              <a:stCxn id="67" idx="3"/>
              <a:endCxn id="62" idx="1"/>
            </p:cNvCxnSpPr>
            <p:nvPr/>
          </p:nvCxnSpPr>
          <p:spPr>
            <a:xfrm flipV="1">
              <a:off x="3043080" y="4907160"/>
              <a:ext cx="887760" cy="268164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  <a:tailEnd len="med" type="arrow" w="med"/>
            </a:ln>
          </p:spPr>
        </p:cxnSp>
      </p:grpSp>
      <p:cxnSp>
        <p:nvCxnSpPr>
          <p:cNvPr id="84" name="直接箭头连接符 22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5" name="直接箭头连接符 23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2T07:18:26Z</dcterms:created>
  <dc:creator>Administrator</dc:creator>
  <dc:description/>
  <dc:language>en-US</dc:language>
  <cp:lastModifiedBy>Administrator</cp:lastModifiedBy>
  <dcterms:modified xsi:type="dcterms:W3CDTF">2021-12-03T08:21:10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8C57FCD8725431A902BB9C03FB892C0</vt:lpwstr>
  </property>
  <property fmtid="{D5CDD505-2E9C-101B-9397-08002B2CF9AE}" pid="3" name="KSOProductBuildVer">
    <vt:lpwstr>2052-10.8.0.6423</vt:lpwstr>
  </property>
</Properties>
</file>